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30480" y="4211280"/>
            <a:ext cx="769752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30480" y="421128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5000" y="421128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32920" y="195912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5720" y="195912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30480" y="421128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32920" y="421128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5720" y="421128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30480" y="979200"/>
            <a:ext cx="7759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30480" y="421128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5000" y="421128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30480" y="4211280"/>
            <a:ext cx="769752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84080"/>
          </a:xfrm>
          <a:prstGeom prst="rect">
            <a:avLst/>
          </a:prstGeom>
          <a:solidFill>
            <a:srgbClr val="e000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281160" y="130320"/>
          <a:ext cx="434016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30320"/>
                    <a:ext cx="43401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marL="325440" indent="-7128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2" marL="576360" indent="-7488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95320" indent="-22680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89160" indent="-22860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5" marL="218916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6" marL="218916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"/>
          <p:cNvSpPr/>
          <p:nvPr/>
        </p:nvSpPr>
        <p:spPr>
          <a:xfrm>
            <a:off x="1266840" y="1752480"/>
            <a:ext cx="7807320" cy="0"/>
          </a:xfrm>
          <a:prstGeom prst="line">
            <a:avLst/>
          </a:prstGeom>
          <a:ln w="28440">
            <a:solidFill>
              <a:srgbClr val="e00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0000"/>
                </a:solidFill>
                <a:latin typeface="Arial"/>
              </a:rPr>
              <a:t>SPHERE STANDARDS </a:t>
            </a:r>
            <a:br>
              <a:rPr sz="3100"/>
            </a:br>
            <a:r>
              <a:rPr b="1" lang="en-GB" sz="3100" spc="-1" strike="noStrike">
                <a:solidFill>
                  <a:srgbClr val="ff0000"/>
                </a:solidFill>
                <a:latin typeface="Arial"/>
              </a:rPr>
              <a:t>FOR WATER AND SANIT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Queuing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959120"/>
            <a:ext cx="824364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 queuing time of more than 15 minutes indicate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576360" indent="-74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sufficient number of sources / tap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576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576360" indent="-74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sufficient flow rat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576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576360" indent="-74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sufficient access tim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Considerations for Installing Source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76978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esign pressure and distribution costs (tapstand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Groundwater availability (well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Flood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raina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979200"/>
            <a:ext cx="4176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Institutional Need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64000" y="765000"/>
            <a:ext cx="4680000" cy="609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4360" y="3789360"/>
            <a:ext cx="41767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Page 93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Water Quality - Sanitary Surve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4208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5661000"/>
            <a:ext cx="875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If the answer to any of these questions is No, there is a strong likelihood that there is an issue with water quality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979200"/>
            <a:ext cx="82090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y Indicators – Water Use Facilities and Good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677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Unicode MS"/>
              </a:rPr>
              <a:t>What is the minimum amount of water containers per family?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Unicode MS"/>
              </a:rPr>
              <a:t>What is the minimum amount of soap for personal hygiene per person per month?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ning for public sani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Excreta Disposal Standard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Unicode MS"/>
              </a:rPr>
              <a:t>Access to, and number of, toilet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Unicode MS"/>
              </a:rPr>
              <a:t>Design, construction, and use of toilet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How Many Latrines?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5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 Unicode MS"/>
              </a:rPr>
              <a:t>COMMUNAL TOILETS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 Unicode MS"/>
              </a:rPr>
              <a:t>Initial emergency phase:  </a:t>
            </a:r>
            <a:r>
              <a:rPr b="1" lang="en-GB" sz="2100" spc="-1" strike="noStrike">
                <a:solidFill>
                  <a:srgbClr val="000000"/>
                </a:solidFill>
                <a:latin typeface="Arial Unicode MS"/>
              </a:rPr>
              <a:t>1 drophole per 50 people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 Unicode MS"/>
              </a:rPr>
              <a:t>Provide </a:t>
            </a:r>
            <a:r>
              <a:rPr b="1" lang="en-GB" sz="2100" spc="-1" strike="noStrike">
                <a:solidFill>
                  <a:srgbClr val="000000"/>
                </a:solidFill>
                <a:latin typeface="Arial Unicode MS"/>
              </a:rPr>
              <a:t>1 drophole per 20 people</a:t>
            </a:r>
            <a:r>
              <a:rPr b="0" lang="en-GB" sz="2100" spc="-1" strike="noStrike">
                <a:solidFill>
                  <a:srgbClr val="000000"/>
                </a:solidFill>
                <a:latin typeface="Arial Unicode MS"/>
              </a:rPr>
              <a:t> as soon as possible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Arial Unicode MS"/>
              </a:rPr>
              <a:t>Transition to family latrines if and when possible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 Unicode MS"/>
              </a:rPr>
              <a:t>FAMILY TOILETS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 Unicode MS"/>
              </a:rPr>
              <a:t>1 toilet per family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 Unicode MS"/>
              </a:rPr>
              <a:t>A family might be more than one house and could be up to 20 people.  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 Unicode MS"/>
              </a:rPr>
              <a:t>Work with community to decide how many family toilets are necessary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Latrine Program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Quantit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Latrine desig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84872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essibility for children and disabl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fort and community desir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il type and water tab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vacy and securit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al cleansing material (amount of water used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tying/Longevit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82960" y="402732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2960" y="250344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87680" y="4865760"/>
            <a:ext cx="487656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87680" y="1969920"/>
            <a:ext cx="502920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87680" y="3417840"/>
            <a:ext cx="49528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87680" y="19782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 Black"/>
              </a:rPr>
              <a:t>Minimum standar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4941720"/>
            <a:ext cx="540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 Black"/>
              </a:rPr>
              <a:t>Guidance not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87680" y="3494160"/>
            <a:ext cx="716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 Black"/>
              </a:rPr>
              <a:t>Key indicators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Latrine Quant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ommunal vs. famil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ccuracy of population dat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Land availabilit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979200"/>
            <a:ext cx="8305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Latrine Loc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lnSpc>
                <a:spcPct val="13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mmunity preferences (not just leaders, not just men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3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der divis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3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andwashing faciliti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lnSpc>
                <a:spcPct val="13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looding, drainage, water tab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979200"/>
            <a:ext cx="4176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Institutional Need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6950160" cy="4524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3573360"/>
            <a:ext cx="17269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Page 94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Areas of Key Standard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ygiene Promo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99960" indent="-3999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ater Suppl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99960" indent="-3999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xcreta Dispos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99960" indent="-3999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Vector Contro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99960" indent="-3999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lid Waste Manageme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99960" indent="-3999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rainag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Hygiene Promo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30120" y="2204640"/>
            <a:ext cx="64371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How many Hygiene Promoters for 10,000 people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ning for water distrib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Water Supply Standard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Unicode MS"/>
              </a:rPr>
              <a:t>Water Quantit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Unicode MS"/>
              </a:rPr>
              <a:t>Water Qualit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Unicode MS"/>
              </a:rPr>
              <a:t>Water Use Facilities and Good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Water Quantity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Unicode MS"/>
              </a:rPr>
              <a:t>What is the maximum distance from any household to the nearest water point? 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Unicode MS"/>
              </a:rPr>
              <a:t>What is the maximum queuing time at a water source? 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Unicode MS"/>
              </a:rPr>
              <a:t>What is the minimum amount of water that needs to be provided for a mosque?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Water Quantity Consideration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ccuracy of population dat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gricultur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Mud bricks and other construc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People per water sourc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30480" y="1959120"/>
          <a:ext cx="7697520" cy="4311360"/>
        </p:xfrm>
        <a:graphic>
          <a:graphicData uri="http://schemas.openxmlformats.org/drawingml/2006/table">
            <a:tbl>
              <a:tblPr/>
              <a:tblGrid>
                <a:gridCol w="7697520"/>
              </a:tblGrid>
              <a:tr h="14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50 people per ta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0 people per handpum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0 people per single-user open w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2:21:22Z</dcterms:created>
  <dc:creator>JOSEPH</dc:creator>
  <dc:description/>
  <dc:language>en-US</dc:language>
  <cp:lastModifiedBy>william.carter</cp:lastModifiedBy>
  <dcterms:modified xsi:type="dcterms:W3CDTF">2008-12-13T16:51:46Z</dcterms:modified>
  <cp:revision>67</cp:revision>
  <dc:subject/>
  <dc:title>PowerPoint Presentation</dc:title>
</cp:coreProperties>
</file>