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8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2.jpeg" ContentType="image/jpe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30480" y="4211280"/>
            <a:ext cx="769752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30480" y="421128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5000" y="421128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32920" y="195912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5720" y="195912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30480" y="421128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32920" y="421128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5720" y="4211280"/>
            <a:ext cx="2478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30480" y="979200"/>
            <a:ext cx="7759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30480" y="421128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5000" y="421128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3048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5000" y="1959120"/>
            <a:ext cx="375624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30480" y="4211280"/>
            <a:ext cx="7697520" cy="20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84080"/>
          </a:xfrm>
          <a:prstGeom prst="rect">
            <a:avLst/>
          </a:prstGeom>
          <a:solidFill>
            <a:srgbClr val="e000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281160" y="130320"/>
          <a:ext cx="434016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30320"/>
                    <a:ext cx="43401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325440" indent="-7128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2" marL="576360" indent="-7488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95320" indent="-22680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89160" indent="-22860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5" marL="218916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6" marL="218916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"/>
          <p:cNvSpPr/>
          <p:nvPr/>
        </p:nvSpPr>
        <p:spPr>
          <a:xfrm>
            <a:off x="1266840" y="1752480"/>
            <a:ext cx="7807320" cy="0"/>
          </a:xfrm>
          <a:prstGeom prst="line">
            <a:avLst/>
          </a:prstGeom>
          <a:ln w="28440">
            <a:solidFill>
              <a:srgbClr val="e00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isaster Response K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13448" r="5741" b="0"/>
          <a:stretch/>
        </p:blipFill>
        <p:spPr>
          <a:xfrm>
            <a:off x="0" y="2421000"/>
            <a:ext cx="4716360" cy="324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OX E1"/>
          <p:cNvPicPr/>
          <p:nvPr/>
        </p:nvPicPr>
        <p:blipFill>
          <a:blip r:embed="rId2"/>
          <a:stretch/>
        </p:blipFill>
        <p:spPr>
          <a:xfrm>
            <a:off x="3995640" y="5187960"/>
            <a:ext cx="2737080" cy="1670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1863720" cy="2492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488360" y="1916280"/>
            <a:ext cx="1655640" cy="163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20000" y="436572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451640" y="5688000"/>
            <a:ext cx="73188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8275680" y="5624640"/>
            <a:ext cx="868320" cy="123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867280" y="3968640"/>
            <a:ext cx="21621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cc3300"/>
                </a:solidFill>
                <a:latin typeface="Arial"/>
              </a:rPr>
              <a:t>SanPlat moulds – All in on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67280" y="3052800"/>
            <a:ext cx="5076720" cy="3805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Plastic Mould - easily made"/>
          <p:cNvPicPr/>
          <p:nvPr/>
        </p:nvPicPr>
        <p:blipFill>
          <a:blip r:embed="rId2"/>
          <a:stretch/>
        </p:blipFill>
        <p:spPr>
          <a:xfrm>
            <a:off x="0" y="1844640"/>
            <a:ext cx="42861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561440" cy="47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cc3300"/>
                </a:solidFill>
                <a:latin typeface="Arial"/>
              </a:rPr>
              <a:t>SanPlat Mould Box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13480" y="184464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anpla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apid Latrin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288040" y="1700280"/>
            <a:ext cx="3855960" cy="5157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525456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404040" cy="48038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ygiene Promotion Box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5911" r="0" b="0"/>
          <a:stretch/>
        </p:blipFill>
        <p:spPr>
          <a:xfrm>
            <a:off x="4500720" y="692280"/>
            <a:ext cx="4914720" cy="616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6298" r="0" b="3797"/>
          <a:stretch/>
        </p:blipFill>
        <p:spPr>
          <a:xfrm>
            <a:off x="-900000" y="692280"/>
            <a:ext cx="51433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5030" t="17221" r="15053" b="18217"/>
          <a:stretch/>
        </p:blipFill>
        <p:spPr>
          <a:xfrm>
            <a:off x="4732200" y="1700280"/>
            <a:ext cx="4411800" cy="4753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500720" cy="3379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9375" t="22245" r="25482" b="14769"/>
          <a:stretch/>
        </p:blipFill>
        <p:spPr>
          <a:xfrm>
            <a:off x="0" y="4221000"/>
            <a:ext cx="450072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Water Storag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00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3311640" cy="3259440"/>
          </a:xfrm>
          <a:prstGeom prst="rect">
            <a:avLst/>
          </a:prstGeom>
          <a:ln w="0">
            <a:noFill/>
          </a:ln>
        </p:spPr>
      </p:pic>
      <p:pic>
        <p:nvPicPr>
          <p:cNvPr id="90" name="image002" descr=""/>
          <p:cNvPicPr/>
          <p:nvPr/>
        </p:nvPicPr>
        <p:blipFill>
          <a:blip r:embed="rId2"/>
          <a:stretch/>
        </p:blipFill>
        <p:spPr>
          <a:xfrm>
            <a:off x="5695920" y="2708280"/>
            <a:ext cx="3448080" cy="4149720"/>
          </a:xfrm>
          <a:prstGeom prst="rect">
            <a:avLst/>
          </a:prstGeom>
          <a:ln w="0">
            <a:noFill/>
          </a:ln>
        </p:spPr>
      </p:pic>
      <p:pic>
        <p:nvPicPr>
          <p:cNvPr id="91" name="image006" descr=""/>
          <p:cNvPicPr/>
          <p:nvPr/>
        </p:nvPicPr>
        <p:blipFill>
          <a:blip r:embed="rId3"/>
          <a:stretch/>
        </p:blipFill>
        <p:spPr>
          <a:xfrm>
            <a:off x="0" y="4330800"/>
            <a:ext cx="31687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ow Flow Water Dispenser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12264" t="0" r="12264" b="0"/>
          <a:stretch/>
        </p:blipFill>
        <p:spPr>
          <a:xfrm>
            <a:off x="826920" y="2349360"/>
            <a:ext cx="3097440" cy="4104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994360" y="2249640"/>
            <a:ext cx="3149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Vector Contro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2222640"/>
            <a:ext cx="4708800" cy="4635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16520" y="2509920"/>
            <a:ext cx="42274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jabon.jpg (4153 bytes)"/>
          <p:cNvPicPr/>
          <p:nvPr/>
        </p:nvPicPr>
        <p:blipFill>
          <a:blip r:embed="rId1"/>
          <a:stretch/>
        </p:blipFill>
        <p:spPr>
          <a:xfrm>
            <a:off x="1619280" y="1844640"/>
            <a:ext cx="4176720" cy="3720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860400">
            <a:off x="2484000" y="378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S O A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2492280"/>
            <a:ext cx="470052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What is a Kit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2708280"/>
            <a:ext cx="48546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When will the Kits be used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6121440" cy="23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What is needed to deploy them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2007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What happens to the Kits afterwards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0480" y="1959120"/>
            <a:ext cx="76975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Water Supply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 lvl="2" marL="576360" indent="-74880">
              <a:spcBef>
                <a:spcPts val="9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Unicode MS"/>
              </a:rPr>
              <a:t>Household water treatment</a:t>
            </a:r>
            <a:endParaRPr b="0" lang="en-US" sz="3800" spc="-1" strike="noStrike">
              <a:solidFill>
                <a:srgbClr val="000000"/>
              </a:solidFill>
              <a:latin typeface="Arial Unicode MS"/>
            </a:endParaRPr>
          </a:p>
          <a:p>
            <a:pPr lvl="2" marL="576360" indent="-74880">
              <a:spcBef>
                <a:spcPts val="9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Unicode MS"/>
              </a:rPr>
              <a:t>Filters</a:t>
            </a:r>
            <a:endParaRPr b="0" lang="en-US" sz="38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Sanitation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 marL="88920" indent="-88920"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Hygiene Promotion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 lvl="1" marL="325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at is in the Kit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Household Water Treatment (Kit 2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303640" cy="21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56360" y="2708280"/>
            <a:ext cx="2698560" cy="2924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23720" y="4324320"/>
            <a:ext cx="1376640" cy="220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050920" y="4292640"/>
            <a:ext cx="1635120" cy="232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0" y="40766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Filters (Kit 5 and 10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270828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6005" t="0" r="7792" b="0"/>
          <a:stretch/>
        </p:blipFill>
        <p:spPr>
          <a:xfrm>
            <a:off x="0" y="2635200"/>
            <a:ext cx="3851280" cy="334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OX E1"/>
          <p:cNvPicPr/>
          <p:nvPr/>
        </p:nvPicPr>
        <p:blipFill>
          <a:blip r:embed="rId2"/>
          <a:stretch/>
        </p:blipFill>
        <p:spPr>
          <a:xfrm>
            <a:off x="4643280" y="2997360"/>
            <a:ext cx="48596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0480" y="979200"/>
            <a:ext cx="77594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3300"/>
                </a:solidFill>
                <a:latin typeface="Arial"/>
              </a:rPr>
              <a:t>Sanit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10267" r="0" b="0"/>
          <a:stretch/>
        </p:blipFill>
        <p:spPr>
          <a:xfrm>
            <a:off x="0" y="3860640"/>
            <a:ext cx="8686800" cy="299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2549520" cy="1966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222732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8:39:52Z</dcterms:created>
  <dc:creator>libertad.gonzalez</dc:creator>
  <dc:description/>
  <dc:language>en-US</dc:language>
  <cp:lastModifiedBy>william.carter</cp:lastModifiedBy>
  <dcterms:modified xsi:type="dcterms:W3CDTF">2008-12-14T14:38:56Z</dcterms:modified>
  <cp:revision>22</cp:revision>
  <dc:subject/>
  <dc:title>Sanitation and Hygiene promotion in emergency</dc:title>
</cp:coreProperties>
</file>