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30480" y="1959120"/>
            <a:ext cx="769752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30480" y="4211280"/>
            <a:ext cx="769752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30480" y="1959120"/>
            <a:ext cx="3756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75000" y="1959120"/>
            <a:ext cx="3756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30480" y="4211280"/>
            <a:ext cx="3756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75000" y="4211280"/>
            <a:ext cx="3756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30480" y="1959120"/>
            <a:ext cx="2478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32920" y="1959120"/>
            <a:ext cx="2478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5720" y="1959120"/>
            <a:ext cx="2478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30480" y="4211280"/>
            <a:ext cx="2478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32920" y="4211280"/>
            <a:ext cx="2478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5720" y="4211280"/>
            <a:ext cx="2478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30480" y="1959120"/>
            <a:ext cx="76975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30480" y="1959120"/>
            <a:ext cx="76975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30480" y="1959120"/>
            <a:ext cx="375624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75000" y="1959120"/>
            <a:ext cx="375624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30480" y="979200"/>
            <a:ext cx="7759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30480" y="1959120"/>
            <a:ext cx="3756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75000" y="1959120"/>
            <a:ext cx="375624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30480" y="4211280"/>
            <a:ext cx="3756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30480" y="1959120"/>
            <a:ext cx="375624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75000" y="1959120"/>
            <a:ext cx="3756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75000" y="4211280"/>
            <a:ext cx="3756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30480" y="1959120"/>
            <a:ext cx="3756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75000" y="1959120"/>
            <a:ext cx="3756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30480" y="4211280"/>
            <a:ext cx="769752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784080"/>
          </a:xfrm>
          <a:prstGeom prst="rect">
            <a:avLst/>
          </a:prstGeom>
          <a:solidFill>
            <a:srgbClr val="e000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281160" y="130320"/>
          <a:ext cx="4340160" cy="49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160" y="130320"/>
                    <a:ext cx="434016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230480" y="1959120"/>
            <a:ext cx="76975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8920" indent="-88920">
              <a:spcBef>
                <a:spcPts val="5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lvl="1" marL="325440" indent="-71280">
              <a:spcBef>
                <a:spcPts val="5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lvl="2" marL="576360" indent="-74880">
              <a:spcBef>
                <a:spcPts val="5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lvl="3" marL="1795320" indent="-226800">
              <a:spcBef>
                <a:spcPts val="5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lvl="4" marL="2189160" indent="-228600">
              <a:spcBef>
                <a:spcPts val="5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lvl="5" marL="218916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lvl="6" marL="218916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"/>
          <p:cNvSpPr/>
          <p:nvPr/>
        </p:nvSpPr>
        <p:spPr>
          <a:xfrm>
            <a:off x="1266840" y="1752480"/>
            <a:ext cx="7807320" cy="0"/>
          </a:xfrm>
          <a:prstGeom prst="line">
            <a:avLst/>
          </a:prstGeom>
          <a:ln w="28440">
            <a:solidFill>
              <a:srgbClr val="e000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hemical Treat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0" t="15201" r="0" b="0"/>
          <a:stretch/>
        </p:blipFill>
        <p:spPr>
          <a:xfrm>
            <a:off x="900000" y="1496880"/>
            <a:ext cx="766764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How much chlorine?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280" y="1959120"/>
            <a:ext cx="817236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" indent="-83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Enough to kill harmful organism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3520" indent="-83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ot so much that people dislike the tast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3520" indent="-83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phere standard 0.5 mg/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3520" indent="-83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est with pool tester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3520" indent="-83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lect dosage with bucket tes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Bucket Tes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30480" y="1959120"/>
            <a:ext cx="76975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8920" indent="-889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lace different quantities of 1% chlorine solution in different containers of water. 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easure chlorine after 30 minutes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hoose the best dosage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onvert dosage to the tank you are using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Making 1% chlorine solution 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6000" y="1959120"/>
            <a:ext cx="892800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87840" indent="-87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1 spoon of HTH powder is about 14 gram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7840" indent="-87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HTH powder is 70% chlorin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7840" indent="-87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o 1 spoon of HTH powder is 10 grams chlorin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7840" indent="-87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1 litre is 1kg or 1000g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7840" indent="-87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o 10 grams of chlorine in 1000 grams of water is 1%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53272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82440" indent="-82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You do a bucket test in several 15 litre buckets.  5 ml of 1% solution is the best dosage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 Unicode MS"/>
              </a:rPr>
              <a:t>HINT: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There is 10 g of chlorine in 1 litre of 1% solution or 0.01 g per m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2440" indent="-82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You are treating water in a T45 (45,000 litres). 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2440" indent="-82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How much chlorine per batch do you add?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532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87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0.01 g chlorine per mL of 1% solution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7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so 0.05 g chlorine in 5 m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7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45,000 litres / 15 L = 3,000 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7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3,000 x 0.05 g = 150 g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1 spoon = 10 g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So, 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</a:rPr>
              <a:t>15 spoon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8920" indent="-889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dimentatio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325440" indent="-712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325440" indent="-712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hemica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325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325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325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Disinfectio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64000" y="1989000"/>
            <a:ext cx="46083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hysical Sedimentation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30480" y="1959120"/>
            <a:ext cx="76975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89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Keeping the water in a tank long enough for the dirt to settle to the bottom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348000" y="3933720"/>
            <a:ext cx="46087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hemical Sedimentation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3405240"/>
            <a:ext cx="93963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Jar Tes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30480" y="1959120"/>
            <a:ext cx="76975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8920" indent="-889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lace different quantities of alum in different containers of water. 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easure turbidity at regular time intervals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hoose the best dosage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onvert dosage to the tank you are using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urbidity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30480" y="1959120"/>
            <a:ext cx="76975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8920" indent="-889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Turbidity is how clear the water is.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Turbidity of drinking water must be less than 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5 NTU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959120"/>
            <a:ext cx="85327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8920" indent="-889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You do a jar test in several 15 litre buckets.  2 grams of alum is the best dosage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You are treating water in a T45 (45,000 litres). 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How much alum per batch do you add?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30480" y="1959120"/>
            <a:ext cx="76975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8920" indent="-889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2 grams for 15 litr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45,000 litres / 15 litres = 3,000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2 grams x 3,000 = 6,000 grams or 6 kilogram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inf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30480" y="1959120"/>
            <a:ext cx="76975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8920" indent="-88920"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Adding chlorine to water in order to kill any harmful organisms.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Adding chlorine to provide residual protection.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08:39:52Z</dcterms:created>
  <dc:creator>libertad.gonzalez</dc:creator>
  <dc:description/>
  <dc:language>en-US</dc:language>
  <cp:lastModifiedBy>william.carter</cp:lastModifiedBy>
  <dcterms:modified xsi:type="dcterms:W3CDTF">2008-12-13T21:48:04Z</dcterms:modified>
  <cp:revision>22</cp:revision>
  <dc:subject/>
  <dc:title>Sanitation and Hygiene promotion in emergency</dc:title>
</cp:coreProperties>
</file>